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F4A-351C-4007-ADA2-E6AECB4F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F27-BF5D-4938-8D9D-165C7F4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3CE-3E6F-4541-8EDE-4A305166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778-11D7-4639-9770-419F9343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4E8-329B-4C50-B5D4-F150101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58A-8BCD-4670-991F-7AD1373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BE4-7662-40EC-A9FC-0EF0E8A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C4E-66E3-43BD-8741-6A9D336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BF7-61E7-4D7E-95A5-118B4E4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BD3-D8CE-47B3-B26D-18414C02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A01-C1D0-467D-B56F-6B24102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2B0-4251-47A6-97BD-75A7262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1923-13E3-43F5-A86D-A65931F55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عصُفُ الري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فسي لا تب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ثخُنُ الجِرا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َ أنسى ح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ربَكَ تُز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تمةُ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0"/>
            <a:ext cx="396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وجهُكَ النع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يتني أ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طلٌ ع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ُ ما سِو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غبتي أُ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حِما هوا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 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1T02:46:16Z</dcterms:modified>
  <cp:revision>7</cp:revision>
  <dc:subject/>
  <dc:title>PowerPoint Presentation</dc:title>
</cp:coreProperties>
</file>